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2511-282B-40DF-9FB6-F124AB63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DE78-B409-4FAD-A4DD-1602A1A5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70D0-B3FB-479F-8947-A4E8E6DF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BC12-86D6-486A-9C8F-5C09646E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966-8B98-4A4C-B1F1-8C5DA739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E4A7-86CC-4797-91BA-E3FE3F97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3A11-1C8D-4454-A4EE-C772581D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E89-F856-439B-B15B-56F7C0F32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B55B-5D9F-4B1C-972E-EFDA7F80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141-B486-4669-A8D9-8A354392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17B6-F577-4BC8-B045-8A04033C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36C-0A34-424A-B60E-56CE63DB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785B-8AE8-4C7D-9EF5-F6009C649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042920" y="189000"/>
            <a:ext cx="6913800" cy="119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1 Decembrie 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1628640"/>
            <a:ext cx="7848720" cy="581400"/>
          </a:xfrm>
          <a:prstGeom prst="rect">
            <a:avLst/>
          </a:prstGeom>
          <a:noFill/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Ziua na</a:t>
            </a:r>
            <a:r>
              <a:rPr b="1" i="1" lang="ro-RO" sz="3200" spc="-1" strike="noStrike">
                <a:solidFill>
                  <a:srgbClr val="000000"/>
                </a:solidFill>
                <a:latin typeface="Times New Roman"/>
              </a:rPr>
              <a:t>ţională a Români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5184720" cy="3808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96000" y="270828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Vă aşteptăm cu drag în Piaţa Constituţiei la ora 1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o-RO" sz="2000" spc="-1" strike="noStrike">
                <a:solidFill>
                  <a:srgbClr val="000000"/>
                </a:solidFill>
                <a:latin typeface="Times New Roman"/>
              </a:rPr>
              <a:t>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2:55:40Z</dcterms:created>
  <dc:creator> </dc:creator>
  <dc:description/>
  <dc:language>en-US</dc:language>
  <cp:lastModifiedBy> </cp:lastModifiedBy>
  <dcterms:modified xsi:type="dcterms:W3CDTF">2011-12-05T12:57:31Z</dcterms:modified>
  <cp:revision>2</cp:revision>
  <dc:subject/>
  <dc:title>Diapozitivul 1</dc:title>
</cp:coreProperties>
</file>